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DB0E-F720-4701-A65E-9043E0E04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3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47A4-EA2B-4F9F-A135-1605AFCCE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9440" y="160020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9440" y="396432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4EE9-8C61-4363-9A11-D840B9949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9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1440" y="1600200"/>
            <a:ext cx="269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8880" y="1600200"/>
            <a:ext cx="269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9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1440" y="3964320"/>
            <a:ext cx="269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8880" y="3964320"/>
            <a:ext cx="269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2BB2-BDA4-4886-AF1F-28F9C3D64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6A20-D1A4-400E-AD63-9B60D74F41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E07A-C7C6-4497-9B08-1535DA454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08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9440" y="1600200"/>
            <a:ext cx="408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0672-D93C-4303-A385-D9844CB5C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F2CA-300A-4C94-86FA-19FE7112D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36F6-1D59-4A45-9FFB-E168769EB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440" y="1600200"/>
            <a:ext cx="408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696C-CB1E-4957-ABF1-2A4B00A86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08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440" y="160020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9440" y="396432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CF2B-B286-4731-8360-74E545292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9440" y="1600200"/>
            <a:ext cx="408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3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C868-06F9-4A94-8360-B5572D4EB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000" y="6237000"/>
            <a:ext cx="616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808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808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 „EU in Motion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– 2008-11-10, CEDEFOP Workshop Thessaloni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14F6-6869-4B2B-AAFB-9C78B4B8F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1125360"/>
            <a:ext cx="8424720" cy="216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12000" y="4351320"/>
            <a:ext cx="3132000" cy="2506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484360" y="6237360"/>
            <a:ext cx="1986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885080" y="260280"/>
            <a:ext cx="103968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rcRect l="0" t="69092" r="0" b="0"/>
          <a:stretch/>
        </p:blipFill>
        <p:spPr>
          <a:xfrm>
            <a:off x="324000" y="6202440"/>
            <a:ext cx="76356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628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000" y="1989000"/>
            <a:ext cx="8596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EU in Motion –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Qualifying for better health care using the EQ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4436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Main Finding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ificant heterogenity between countries reg. professional competences, missing output-orientation in the curricula and qualification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ansparency reg. relationship between competences and profession / deficits in curricula &amp; competenc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repancies between the professional educational systems reg. the health professions set up barriers for comparability, permeability and recogn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pt UK, the countries do not have an NQF yet – no basis for strengthening transparency &amp; compa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jority of employers do not know the NQF/EQ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0280" y="274320"/>
            <a:ext cx="7354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Good Practice Questionnair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1681" t="829" r="15073" b="5802"/>
          <a:stretch/>
        </p:blipFill>
        <p:spPr>
          <a:xfrm>
            <a:off x="611280" y="1665360"/>
            <a:ext cx="7513560" cy="4354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, evaluate and document good practice on the basis of a questionnaire and the competence matrix,  discuss it in transnational working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olutions for the transfer of good practice und test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aborate recommendations for diverse stakeholder-levels, execute national stakeholder conferences aimed at awareness rai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trategies for promoting quality assurance in the professional educatio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Good Practice – EQF Matrix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9520" y="1413000"/>
            <a:ext cx="776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Promotion of Project Resul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seminated through existing networks of the project partn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ation of the papers, handbooks and recommendations at the political decision-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stakeholder con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olvement into new or improved curric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s on CD and website (for distribution beyond the participating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-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6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Lifelong-Learning and Mobility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iated consideration of competences increases level of recognised professional qualifications and promotes lifelo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bility is strengthened – as qualifications behind a profession are transparent, exchange of experiences and application of good practice across EU fosters level of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QF (based on EQF) allows a better comparability of professional competences across EU, this fosters professional practice stays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s to promote European comparability reg the qualifications of different professions (EUROPASS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628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1484280"/>
            <a:ext cx="5329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557360"/>
            <a:ext cx="8496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GZ Berlin International Cooperation Agency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2840" y="2490480"/>
            <a:ext cx="83628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joint private and public sector institution based in Berlin and set up to carry out international cooperation pro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non-profit organization, institutionally supported by the Berlin Senate Department for Economics, Technology and Women´s Iss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33360"/>
            <a:ext cx="52578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BGZ - Who we are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1628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62864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in 198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70 projects executed so f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of work: support of SMEs, VET, Integration von immigrants, Administration co-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65228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BGZ – Area of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BGZ - Partners in Berlin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l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e and its departments, as well as district admini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ber of Commerce and Industry, Chamber of Small Business and Skilled Crafts, gui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associations, interest networks, 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institutions: universities, Institutes, VET-centers, college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628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000" y="1484280"/>
            <a:ext cx="7083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GZ Berliner Gesellschaft für internationale Zusammenarbeit m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gsburger Str. 33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-10789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n: +4930/ 809 941-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x: +4930/ 809 941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fo@bgz-berli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.bgz-berli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560" y="404280"/>
            <a:ext cx="65228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6419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Project Summary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4 months, started 01.02.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ship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ons, education institutions (VET-centres, universities etc), and NGO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five countries (Austria, Germany, Slovenia, the Netherlands and the U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lead: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GZ Berlin International Cooperation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628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000" y="2492280"/>
            <a:ext cx="8378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hank you very much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6522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16000" y="1989000"/>
            <a:ext cx="6408720" cy="3357720"/>
          </a:xfrm>
          <a:prstGeom prst="ellipse">
            <a:avLst/>
          </a:prstGeom>
          <a:noFill/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Project Partner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1042920" cy="722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2736720" cy="76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71640" y="2421000"/>
            <a:ext cx="1619280" cy="857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979640" y="4581360"/>
            <a:ext cx="1361880" cy="139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995640" y="4870440"/>
            <a:ext cx="1800360" cy="863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588000" y="2637000"/>
            <a:ext cx="1295640" cy="9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443640" y="4005360"/>
            <a:ext cx="1008000" cy="143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rcRect l="3445" t="23757" r="6890" b="23757"/>
          <a:stretch/>
        </p:blipFill>
        <p:spPr>
          <a:xfrm>
            <a:off x="2124000" y="1628640"/>
            <a:ext cx="19414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64198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Project Focu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8558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the EQF/NQF to foster output-oriented solutions making qualifications and competences of learners and workers in health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nspar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asur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ar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44360"/>
            <a:ext cx="7993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bjectives / Expected Resul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transparency / comparability of qualifications reg. four selected health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barriers for the permeability between VET and academic 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ngthened cooperation of the EU countries to promote transparency and recognition of qual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-oriented solutions, systems and professions to adapt education standards and –practice towards the E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wareness-raising at policy-makers reg. the EQF / NQ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of strategies for a sustainable implementation of the EQF / NQF in the syst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Planned Produc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64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F-oriented Set of Good-Practice regarding the professional education in the health car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 paper to stakeholders &amp; decision-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paper to contribute to an EQR-oriented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Cj04040590000[1]" descr=""/>
          <p:cNvPicPr/>
          <p:nvPr/>
        </p:nvPicPr>
        <p:blipFill>
          <a:blip r:embed="rId1"/>
          <a:stretch/>
        </p:blipFill>
        <p:spPr>
          <a:xfrm>
            <a:off x="7070760" y="1989000"/>
            <a:ext cx="18223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6985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Partners’ Expectation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 comparability of professional competences acquired through different educ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of experiences / use of good practice of other countries reg. the application of the EQF/NQF in individual professions (f.i. credit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 the reform processes from input- to output-oriented procedures to evaluate competences, as well as reg. transition from VET to academic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discriminations of professionals in view of non-recognition of their qualifications and compet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offers reg. further education and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hat was done so far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unning networks and initiate working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alyse situation and needs reg 4 health professions - education system, qualifications and compet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grate 4 health professions in a standardised matrix, incl. framework conditions and competences, exchange experience among partn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 a questionnaire and a matrix to describe good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rt the development of solutions and approaches to use good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nalysis of Profession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1084" b="1163"/>
          <a:stretch/>
        </p:blipFill>
        <p:spPr>
          <a:xfrm>
            <a:off x="324000" y="1413000"/>
            <a:ext cx="78213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4:17:55Z</dcterms:created>
  <dc:creator>Dr. Ines Klemm</dc:creator>
  <dc:description/>
  <dc:language>en-US</dc:language>
  <cp:lastModifiedBy>jsb</cp:lastModifiedBy>
  <dcterms:modified xsi:type="dcterms:W3CDTF">2008-11-07T09:21:10Z</dcterms:modified>
  <cp:revision>224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97511744</vt:r8>
  </property>
  <property fmtid="{D5CDD505-2E9C-101B-9397-08002B2CF9AE}" pid="3" name="_AuthorEmail">
    <vt:lpwstr>projekt@BGZ-Berlin.de</vt:lpwstr>
  </property>
  <property fmtid="{D5CDD505-2E9C-101B-9397-08002B2CF9AE}" pid="4" name="_AuthorEmailDisplayName">
    <vt:lpwstr>Praktikant</vt:lpwstr>
  </property>
  <property fmtid="{D5CDD505-2E9C-101B-9397-08002B2CF9AE}" pid="5" name="_EmailSubject">
    <vt:lpwstr>EU in Motion, Handout und PP</vt:lpwstr>
  </property>
  <property fmtid="{D5CDD505-2E9C-101B-9397-08002B2CF9AE}" pid="6" name="_ReviewingToolsShownOnce">
    <vt:lpwstr/>
  </property>
</Properties>
</file>